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51B-467A-4A32-B0FD-A78F5C9D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F0E-758A-466C-8D07-A6F1F4A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979-6041-4B94-9D1C-7E957E44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06A-A13A-4F53-BB6C-C294EDB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44F-CE14-4DC7-8EF3-E2859D9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08C-2005-4A1B-BDA8-484EE89E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947-4C4C-4F18-B486-4591AF8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4A8-D2DD-4B9E-900F-9C6BA0EC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605-1B49-43EC-A372-2235A1D5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50D-9669-462F-949D-0316F68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F32-BF04-4F0A-8F69-9373DF4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48D-C322-4D94-8BE5-1DA0AE7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D133-C1D3-4576-9128-8816EAC5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377" r="76500" b="51139"/>
          <a:stretch/>
        </p:blipFill>
        <p:spPr>
          <a:xfrm>
            <a:off x="0" y="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82560" y="0"/>
            <a:ext cx="7561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4006" t="0" r="0" b="50009"/>
          <a:stretch/>
        </p:blipFill>
        <p:spPr>
          <a:xfrm>
            <a:off x="0" y="0"/>
            <a:ext cx="7714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1000" y="0"/>
            <a:ext cx="7623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0120" y="546120"/>
            <a:ext cx="79437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00120" y="806400"/>
            <a:ext cx="61419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3:48:20Z</dcterms:created>
  <dc:creator>lucy/laffitte</dc:creator>
  <dc:description/>
  <dc:language>en-US</dc:language>
  <cp:lastModifiedBy>lucy/laffitte</cp:lastModifiedBy>
  <dcterms:modified xsi:type="dcterms:W3CDTF">2011-05-09T12:48:09Z</dcterms:modified>
  <cp:revision>3</cp:revision>
  <dc:subject/>
  <dc:title>PowerPoint Presentation</dc:title>
</cp:coreProperties>
</file>